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A440-9AE6-4308-80B2-B87C61CA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CC0F-32AC-4330-8756-7982CA70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96CB-1718-4F53-9A29-449BB538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B228-ACCE-4A64-8A17-CF2BFAFD1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A8A1-BBDC-4614-8056-6D7462C4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FCB4-8DBF-442F-8F5A-360838E2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3403-770E-4673-B30C-13B76B5A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2AAF-C1BE-4DD8-96E4-FAE2D551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7EE8-8FCF-4C28-9FDE-6280FA45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CCA7-EE93-4350-8AD9-137EC5F7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F7C8-8324-461F-8EEB-07A2CE6B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80A8-354B-48F5-8CCA-6D6E8FCF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2001-25DB-4DE7-B0D9-AD2B7273720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87360" y="1101600"/>
            <a:ext cx="83152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2"/>
          <a:stretch/>
        </p:blipFill>
        <p:spPr>
          <a:xfrm>
            <a:off x="487440" y="1773360"/>
            <a:ext cx="6108480" cy="46332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3"/>
          <a:stretch/>
        </p:blipFill>
        <p:spPr>
          <a:xfrm>
            <a:off x="650880" y="1085760"/>
            <a:ext cx="7851600" cy="65268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4" descr=""/>
          <p:cNvPicPr/>
          <p:nvPr/>
        </p:nvPicPr>
        <p:blipFill>
          <a:blip r:embed="rId4"/>
          <a:stretch/>
        </p:blipFill>
        <p:spPr>
          <a:xfrm>
            <a:off x="5230800" y="3432240"/>
            <a:ext cx="2376360" cy="89064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822240" y="3956040"/>
            <a:ext cx="4114800" cy="45720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523800" y="3413160"/>
            <a:ext cx="822960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517680" y="2876400"/>
            <a:ext cx="5889600" cy="46368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8"/>
          <a:stretch/>
        </p:blipFill>
        <p:spPr>
          <a:xfrm>
            <a:off x="517680" y="2200320"/>
            <a:ext cx="504180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10T16:06:10Z</dcterms:modified>
  <cp:revision>65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